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4F1F-52FE-453B-B21F-6733A61C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A080-DB28-4256-932F-ECFD15E4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3304-4ED7-459A-8960-F54C2444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2328-BB39-4BDD-A63E-525C5415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DF6-0A1A-4C73-8CAC-B7769396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6DA-342D-421B-A9D0-665B1392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37C-5B37-4CC9-9CEB-07D5D543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09E-BCA9-4470-A65B-FB22B1B2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3C0-DAF9-4391-8334-E44DA1A7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B10A-4D07-4ACA-8226-A91EE100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EFFE-B989-488D-8144-ACF5739B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C7F-65E2-438E-A3FC-6FD24D26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A8F9-E1D5-42B6-89BD-0B714363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2CC-7251-4DEC-AB15-80B870CB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A478-702C-4D08-B444-A6F59EB0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shapesource.com/" TargetMode="External"/><Relationship Id="rId5" Type="http://schemas.openxmlformats.org/officeDocument/2006/relationships/hyperlink" Target="mailto:support@visimation.com" TargetMode="External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0938-3FEA-4E5F-8F9F-4FADC26D3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VisioZone Header.jpg"/>
          <p:cNvPicPr/>
          <p:nvPr/>
        </p:nvPicPr>
        <p:blipFill>
          <a:blip r:embed="rId2"/>
          <a:srcRect l="0" t="87281" r="0" b="0"/>
          <a:stretch/>
        </p:blipFill>
        <p:spPr>
          <a:xfrm>
            <a:off x="0" y="0"/>
            <a:ext cx="9144000" cy="84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ShapeSource Logo 150.jpg"/>
          <p:cNvPicPr/>
          <p:nvPr/>
        </p:nvPicPr>
        <p:blipFill>
          <a:blip r:embed="rId3"/>
          <a:stretch/>
        </p:blipFill>
        <p:spPr>
          <a:xfrm>
            <a:off x="7086600" y="6172200"/>
            <a:ext cx="1905120" cy="457200"/>
          </a:xfrm>
          <a:prstGeom prst="rect">
            <a:avLst/>
          </a:prstGeom>
          <a:ln w="0">
            <a:noFill/>
          </a:ln>
        </p:spPr>
      </p:pic>
      <p:sp>
        <p:nvSpPr>
          <p:cNvPr id="43" name="Title 1"/>
          <p:cNvSpPr/>
          <p:nvPr/>
        </p:nvSpPr>
        <p:spPr>
          <a:xfrm>
            <a:off x="77760" y="6218280"/>
            <a:ext cx="609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ea typeface="Arial"/>
                <a:hlinkClick r:id="rId4"/>
              </a:rPr>
              <a:t>www.shapesource.com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 </a:t>
            </a:r>
            <a:r>
              <a:rPr b="0" lang="en-US" sz="16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  <a:ea typeface="Arial"/>
              </a:rPr>
              <a:t>+1 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425-369-6000 </a:t>
            </a:r>
            <a:r>
              <a:rPr b="0" lang="en-US" sz="1400" spc="-1" strike="noStrike" baseline="14000">
                <a:solidFill>
                  <a:srgbClr val="2f5ba9"/>
                </a:solidFill>
                <a:latin typeface="Agenda-MediumCondensed"/>
                <a:ea typeface="Arial"/>
              </a:rPr>
              <a:t>■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genda-MediumCondensed"/>
                <a:hlinkClick r:id="rId5"/>
              </a:rPr>
              <a:t>support@visimation.com</a:t>
            </a:r>
            <a:r>
              <a:rPr b="0" lang="en-US" sz="1400" spc="-1" strike="noStrike">
                <a:solidFill>
                  <a:srgbClr val="72706f"/>
                </a:solidFill>
                <a:latin typeface="Agenda-MediumCondense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Documents and Settings\Liz.VISIMATI-BA736C\My Documents\_MARKETING\Graphics\2010 Logo Change\ProShapes\ProShapesArt\ProShapesArt\HiRes\ProShapesArt.emf"/>
          <p:cNvPicPr/>
          <p:nvPr/>
        </p:nvPicPr>
        <p:blipFill>
          <a:blip r:embed="rId6"/>
          <a:stretch/>
        </p:blipFill>
        <p:spPr>
          <a:xfrm>
            <a:off x="914400" y="125280"/>
            <a:ext cx="2992320" cy="484200"/>
          </a:xfrm>
          <a:prstGeom prst="rect">
            <a:avLst/>
          </a:prstGeom>
          <a:ln w="0">
            <a:noFill/>
          </a:ln>
        </p:spPr>
      </p:pic>
      <p:sp>
        <p:nvSpPr>
          <p:cNvPr id="45" name="Manuf"/>
          <p:cNvSpPr/>
          <p:nvPr/>
        </p:nvSpPr>
        <p:spPr>
          <a:xfrm>
            <a:off x="3809880" y="517680"/>
            <a:ext cx="320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BoldCondensed"/>
                <a:ea typeface="Arial"/>
              </a:rPr>
              <a:t>Cisco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oduct"/>
          <p:cNvSpPr/>
          <p:nvPr/>
        </p:nvSpPr>
        <p:spPr>
          <a:xfrm>
            <a:off x="6934320" y="36396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Optical Networking-Cisco C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4760" y="519120"/>
            <a:ext cx="2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95b"/>
                </a:solidFill>
                <a:latin typeface="Agenda-MediumCondensed"/>
                <a:ea typeface="Arial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71600" y="3124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da-Medium"/>
              </a:rPr>
              <a:t>Enhanced Metafile (emf) Vector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2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5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3813120" y="3533760"/>
            <a:ext cx="15177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600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3808440" y="3192480"/>
            <a:ext cx="1527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60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808440" y="3192480"/>
            <a:ext cx="1527120" cy="8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PTF256-10Gx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PTM-10Gx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isco R42610 Fro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3618000" y="531720"/>
            <a:ext cx="19080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609480" y="1019160"/>
            <a:ext cx="7772400" cy="57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da-Bold"/>
              </a:rPr>
              <a:t>Using These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is PowerPoint file contains Enhanced Metafile (emf) vector images of the product line noted on the title pa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Each slide contains one Enhanced Metafile (emf) vector image, the manufacturer, name of the product line, and the product numbe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 title on each slide is the product number and it contains a hyperlink to the manufacturer’s product page or home page for more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navigate to a particular product number, select the Outline view to show the titles of all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If you don’t have Microsoft Visio on your computer, you can ignore the vss file or Visio Stencil included in the zip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All images in this PowerPoint are created using the same relative scale so the images will fit together when assembled on a docu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PowerPoint does not have the concept of “drawing scale” so the image scale does not relate to standard scales, i.e. 1”=1’-0”, 1:10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You can resize an image by dragging on the sizing handles to make it larger or small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Be sure to only resize using the corner handles to maintain the proper aspect ratio, i.e. height to 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are vector images that will remain clear as the siz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o copy an image to another slide or to a document in another application, select image and use any of several standard Windows Copy/Paste meth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genda-Medium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  if you have assigned a hyperlink to the image, the Hyperlink data will not transfer when copying an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genda-Medium"/>
              </a:rPr>
              <a:t>These Enhanced Metafile (emf) vector images can be used with any Windows based graphic software that supports .emf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2-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491000" y="3468600"/>
            <a:ext cx="16200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2-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486320" y="3468600"/>
            <a:ext cx="17136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6-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300560" y="3541680"/>
            <a:ext cx="542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6-D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300560" y="3541680"/>
            <a:ext cx="542880" cy="1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-TNC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15454-M-TSC-K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048200" y="3567240"/>
            <a:ext cx="104760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CPT-200 Cove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813120" y="3465360"/>
            <a:ext cx="151776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1T17:18:29Z</dcterms:created>
  <dc:creator>Lizl</dc:creator>
  <dc:description/>
  <dc:language>en-US</dc:language>
  <cp:lastModifiedBy>Brett</cp:lastModifiedBy>
  <dcterms:modified xsi:type="dcterms:W3CDTF">2012-07-26T18:35:58Z</dcterms:modified>
  <cp:revision>5</cp:revision>
  <dc:subject/>
  <dc:title>Slide 1</dc:title>
</cp:coreProperties>
</file>